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691813" cy="755967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E06-0EEA-4A59-B636-E0AB063D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39D-7C9C-409F-BE5D-459F0545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ED8-8214-4F4E-91DE-FAEDECA6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491-DD0C-4809-A69D-3D1407A9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DD1B-9020-4164-A318-F0B6E0D1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AA3D-E00B-4C65-ABF4-04191567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24C4-E945-418D-8B41-9893CBED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2B14-A26B-4EB4-96DF-F1946A1A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1ABA-C048-4679-89DF-E743EBB0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CB7D-2E49-4105-9830-0F65A190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3747-15CF-47C7-B8F3-B1DB50E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833-AFF4-406D-B989-9468A76D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6B59-8B66-4EE3-A6E7-D9789B6C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3C23-6B6B-4231-856A-14AE0F8E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06DA-45E4-4917-9BF3-7A797545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F48C-ACBA-46A4-A050-EA2677CC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D668-7D97-4CC3-99F5-F6A10818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02915-1C07-45EA-8471-036A0308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3D16-3BFB-443E-935D-E2746A65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5574-9F13-4795-88A3-5EA79A83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FEB5-8518-4A4D-B97B-AE538F48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20E57-DA83-420A-9994-D0CE2965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9E4-5A6C-4093-A5F8-83B21AB8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D46C-15C3-4A79-A92C-CE173058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DFDF-0FAA-4850-8DD3-614A4E76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E217D-AAD9-459E-8A2A-124C06A7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3BA0-43EA-4091-918D-001E745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A89BE-57F5-40CC-BCF7-E5179EA1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AF18-3BDA-4F94-8B4D-43B6906D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35454-A13B-455E-A1A0-08AF7321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F68-4B0E-4EB3-801C-36D31155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EC1-FBE1-4A96-8378-AFF3310D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0C7-52CE-4162-8917-1D40D33F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E61-3D6B-47D0-A922-FF6BD5FB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1CC-BBC9-4CF8-8E93-064EDDF0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BE0-28CE-4121-A001-C4E102AA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6EF9-7AB7-45C3-A06B-BB210A9109A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BC1-1AEF-48B8-A95E-59D9FC682C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834B-8584-4978-B42E-478DED0B2467}" type="datetime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D1AC-FED5-4616-AF71-36B9E9F0D567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logo.png"/>
          <p:cNvPicPr/>
          <p:nvPr/>
        </p:nvPicPr>
        <p:blipFill>
          <a:blip r:embed="rId2"/>
          <a:stretch/>
        </p:blipFill>
        <p:spPr>
          <a:xfrm>
            <a:off x="8924760" y="581040"/>
            <a:ext cx="938520" cy="63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on.jpg"/>
          <p:cNvPicPr/>
          <p:nvPr/>
        </p:nvPicPr>
        <p:blipFill>
          <a:blip r:embed="rId3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logo.png"/>
          <p:cNvPicPr/>
          <p:nvPr/>
        </p:nvPicPr>
        <p:blipFill>
          <a:blip r:embed="rId4"/>
          <a:stretch/>
        </p:blipFill>
        <p:spPr>
          <a:xfrm>
            <a:off x="9102600" y="433440"/>
            <a:ext cx="939960" cy="63180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11"/>
          <p:cNvSpPr/>
          <p:nvPr/>
        </p:nvSpPr>
        <p:spPr>
          <a:xfrm>
            <a:off x="846000" y="1409760"/>
            <a:ext cx="900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7931160" y="697536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0D302-43C8-4BDE-BC18-28CDF15E92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A805-36A8-4E64-8AD0-F0022F5D3790}" type="datetime">
              <a:rPr b="1" lang="ru-RU" sz="14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9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0EB6-041C-46F0-807F-B2B3A517DA8F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Cover.jpg"/>
          <p:cNvPicPr/>
          <p:nvPr/>
        </p:nvPicPr>
        <p:blipFill>
          <a:blip r:embed="rId1"/>
          <a:stretch/>
        </p:blipFill>
        <p:spPr>
          <a:xfrm>
            <a:off x="7920" y="108000"/>
            <a:ext cx="10599840" cy="6940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260000"/>
            <a:ext cx="5283000" cy="3240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 совершенствовании основополагающих стандартов по межгосударственной стандартизации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8.20, 9.4. МГС № 52-2017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1"/>
          <p:cNvSpPr/>
          <p:nvPr/>
        </p:nvSpPr>
        <p:spPr>
          <a:xfrm>
            <a:off x="2079720" y="1119240"/>
            <a:ext cx="652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9"/>
          <p:cNvSpPr/>
          <p:nvPr/>
        </p:nvSpPr>
        <p:spPr>
          <a:xfrm>
            <a:off x="846000" y="7164360"/>
            <a:ext cx="9004320" cy="0"/>
          </a:xfrm>
          <a:prstGeom prst="line">
            <a:avLst/>
          </a:prstGeom>
          <a:ln w="9360">
            <a:solidFill>
              <a:srgbClr val="007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2" descr="logo.png"/>
          <p:cNvPicPr/>
          <p:nvPr/>
        </p:nvPicPr>
        <p:blipFill>
          <a:blip r:embed="rId2"/>
          <a:stretch/>
        </p:blipFill>
        <p:spPr>
          <a:xfrm>
            <a:off x="376200" y="268200"/>
            <a:ext cx="939960" cy="630360"/>
          </a:xfrm>
          <a:prstGeom prst="rect">
            <a:avLst/>
          </a:prstGeom>
          <a:ln w="0">
            <a:noFill/>
          </a:ln>
        </p:spPr>
      </p:pic>
      <p:sp>
        <p:nvSpPr>
          <p:cNvPr id="133" name="Номер слайда 6"/>
          <p:cNvSpPr/>
          <p:nvPr/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C8B46C0B-984E-44A1-89C8-DF5AEEFCB123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Cover.jpg"/>
          <p:cNvPicPr/>
          <p:nvPr/>
        </p:nvPicPr>
        <p:blipFill>
          <a:blip r:embed="rId1"/>
          <a:stretch/>
        </p:blipFill>
        <p:spPr>
          <a:xfrm>
            <a:off x="7920" y="152280"/>
            <a:ext cx="10599840" cy="6940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400" y="1260000"/>
            <a:ext cx="5283000" cy="3240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труктура доклада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1. Состояние вопроса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2. Изменение № 1 ГОСТ 1.1—2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02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3. Изменение № 1 ГОСТ 1.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—2015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4. Изменение № 2 ГОСТ 1.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—2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01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5.                             ГОСТ 1.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—201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_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6. Предложение в проект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1"/>
          <p:cNvSpPr/>
          <p:nvPr/>
        </p:nvSpPr>
        <p:spPr>
          <a:xfrm>
            <a:off x="2079720" y="1119240"/>
            <a:ext cx="652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"/>
          <p:cNvSpPr/>
          <p:nvPr/>
        </p:nvSpPr>
        <p:spPr>
          <a:xfrm>
            <a:off x="846000" y="7164360"/>
            <a:ext cx="9004320" cy="0"/>
          </a:xfrm>
          <a:prstGeom prst="line">
            <a:avLst/>
          </a:prstGeom>
          <a:ln w="9360">
            <a:solidFill>
              <a:srgbClr val="007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logo.png"/>
          <p:cNvPicPr/>
          <p:nvPr/>
        </p:nvPicPr>
        <p:blipFill>
          <a:blip r:embed="rId2"/>
          <a:stretch/>
        </p:blipFill>
        <p:spPr>
          <a:xfrm>
            <a:off x="376200" y="268200"/>
            <a:ext cx="939960" cy="63036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6"/>
          <p:cNvSpPr/>
          <p:nvPr/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95F8D7DA-BA45-4F78-B4E2-47FA3A985A68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6"/>
          <p:cNvSpPr/>
          <p:nvPr/>
        </p:nvSpPr>
        <p:spPr>
          <a:xfrm>
            <a:off x="4554360" y="708120"/>
            <a:ext cx="518328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1 Размещение уведомлений о разработке первых редакций проектов стандартов  дек.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2 Окончание рассмотрения первых редакций проектов стандартов</a:t>
            </a:r>
            <a:br>
              <a:rPr sz="1600"/>
            </a:b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30 марта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3 Размещение первых редакций проектов стандартов в АИС МГС  28 марта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4 Окончание рассмотрения первых редакций проектов стандартов в АИС МГС 28 мая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5 Доработка окончательных редакций проектов стандартов 20 июня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6 Информирование МГС о состоянии разработки 26 июня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7 Принятие окончательных редакций проектов стандартов на 56-м заседании НТКС и утверждение окончательных редакций на 54-м заседании МГ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Титульный лист ГОСТ 1"/>
          <p:cNvPicPr/>
          <p:nvPr/>
        </p:nvPicPr>
        <p:blipFill>
          <a:blip r:embed="rId1"/>
          <a:stretch/>
        </p:blipFill>
        <p:spPr>
          <a:xfrm>
            <a:off x="2630520" y="4738680"/>
            <a:ext cx="1727280" cy="24415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42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Состояние вопро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1"/>
          <p:cNvPicPr/>
          <p:nvPr/>
        </p:nvPicPr>
        <p:blipFill>
          <a:blip r:embed="rId2"/>
          <a:stretch/>
        </p:blipFill>
        <p:spPr>
          <a:xfrm>
            <a:off x="482760" y="1692360"/>
            <a:ext cx="1677960" cy="2376360"/>
          </a:xfrm>
          <a:prstGeom prst="rect">
            <a:avLst/>
          </a:prstGeom>
          <a:ln w="31680">
            <a:solidFill>
              <a:srgbClr val="d16f18"/>
            </a:solidFill>
            <a:miter/>
          </a:ln>
        </p:spPr>
      </p:pic>
      <p:pic>
        <p:nvPicPr>
          <p:cNvPr id="144" name="Picture 10" descr="1"/>
          <p:cNvPicPr/>
          <p:nvPr/>
        </p:nvPicPr>
        <p:blipFill>
          <a:blip r:embed="rId3"/>
          <a:stretch/>
        </p:blipFill>
        <p:spPr>
          <a:xfrm>
            <a:off x="2630520" y="1671480"/>
            <a:ext cx="1693800" cy="23972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145" name="Picture 7" descr="1"/>
          <p:cNvPicPr/>
          <p:nvPr/>
        </p:nvPicPr>
        <p:blipFill>
          <a:blip r:embed="rId4"/>
          <a:stretch/>
        </p:blipFill>
        <p:spPr>
          <a:xfrm>
            <a:off x="468360" y="4738680"/>
            <a:ext cx="1722240" cy="24368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46" name="Номер слайда 7"/>
          <p:cNvSpPr/>
          <p:nvPr/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14631AEB-EF50-478A-A017-C1F8D2FE5CBB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3"/>
          <p:cNvSpPr/>
          <p:nvPr/>
        </p:nvSpPr>
        <p:spPr>
          <a:xfrm>
            <a:off x="4552920" y="1476360"/>
            <a:ext cx="44514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. Исключить тер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4549680" y="1751040"/>
            <a:ext cx="564516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Государственная стандартизация (ст. 2.5.3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Государственный стандарт (ст. 4.1.1.3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Регламентирующий орган власти (ст. 3.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Исполнительный орган по регламентам (ст. 3.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4552920" y="2629080"/>
            <a:ext cx="44514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. Дополнить тер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4549680" y="2916360"/>
            <a:ext cx="499896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Эксперт по стандар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Обязательный стандарт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Ссылка на стандарт (в документе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Датированная ссылка (на стандарт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Недатированная ссылка (на стандарт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Общая ссылка (на стандарты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Обязательная ссылка (на стандарты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Индикативная ссылка (на стандарты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Ссылочный 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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термины из Руководства ИСО/МЭК 2: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*перенос терминов из ГОСТ Р 1.12-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4552920" y="5292720"/>
            <a:ext cx="48830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. Изменить определения  тер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4549680" y="5580000"/>
            <a:ext cx="598176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Технический комитет по стандартизации (ст. 3.1.4) – 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приведение в соответствие с ФЗ «О стандартизации в РФ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Межгосударственный технический комитет по стандар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(ст. 3.1.4.1) – 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увязка с ГОСТ 1.4—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Национальный орган по стандартизации (ст. 3.1.1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– 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приведение в соответствие с ФЗ «О стандартизации в РФ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Международный 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(ст. 4.1.1.1) – 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увязка с ГОСТ 1.3—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1"/>
          <p:cNvPicPr/>
          <p:nvPr/>
        </p:nvPicPr>
        <p:blipFill>
          <a:blip r:embed="rId1"/>
          <a:stretch/>
        </p:blipFill>
        <p:spPr>
          <a:xfrm>
            <a:off x="320760" y="1620720"/>
            <a:ext cx="4017960" cy="5688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54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Verdana"/>
              </a:rPr>
              <a:t>Изменение №1 ГОСТ 1.1–200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9"/>
          <p:cNvSpPr/>
          <p:nvPr/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53624E50-EDD9-40D2-A1C7-D9A1E2C25E73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5"/>
          <p:cNvSpPr/>
          <p:nvPr/>
        </p:nvSpPr>
        <p:spPr>
          <a:xfrm>
            <a:off x="3475080" y="1763640"/>
            <a:ext cx="69721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just">
              <a:lnSpc>
                <a:spcPts val="2098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1.  Пункт 4.4 ГОСТ 1.2-2015  изложить в новой редак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«4.4 Межгосударственный стандарт считается принятым по результатам голосования в АИС МГС 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Calibri"/>
              </a:rPr>
              <a:t>при достижении консенсуса 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между национальными органами, принявшими участие в голосовании, если за его принятие в окончательной редакции проголосовало 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Calibri"/>
              </a:rPr>
              <a:t>не менее четырех из них (включая национальный орган государства-разработчика)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Национальные органы государств, не заинтересованных в применении данного межгосударственного стандарта, должны воздержаться при голосовании по его принятию, а для государств, являющихся полноправными членами МТК, голосование по принимаемым межгосударственным стандартам, относящимся к области деятельности данного МТК, является обязательны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6" descr="1"/>
          <p:cNvPicPr/>
          <p:nvPr/>
        </p:nvPicPr>
        <p:blipFill>
          <a:blip r:embed="rId1"/>
          <a:stretch/>
        </p:blipFill>
        <p:spPr>
          <a:xfrm>
            <a:off x="189000" y="1763640"/>
            <a:ext cx="3213000" cy="454824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pic>
        <p:nvPicPr>
          <p:cNvPr id="158" name="Picture 23" descr="image002"/>
          <p:cNvPicPr/>
          <p:nvPr/>
        </p:nvPicPr>
        <p:blipFill>
          <a:blip r:embed="rId2"/>
          <a:stretch/>
        </p:blipFill>
        <p:spPr>
          <a:xfrm>
            <a:off x="295200" y="2646360"/>
            <a:ext cx="381240" cy="358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3344760" y="6372360"/>
            <a:ext cx="7258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Calibri"/>
              </a:rPr>
              <a:t>Примечание – Консенсус заключается в отсутствии мотивированных (аргументированных) возражений по существу проекта межгосударственного стандарта у любой из участвующих в голосовании сторо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Verdana"/>
              </a:rPr>
              <a:t>Изменение №1 ГОСТ 1.2-20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Verdana"/>
              </a:rPr>
              <a:t>п.4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6"/>
          <p:cNvSpPr/>
          <p:nvPr/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07C7-2325-49BF-9A4C-4523CEEF40A1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3"/>
          <p:cNvSpPr/>
          <p:nvPr/>
        </p:nvSpPr>
        <p:spPr>
          <a:xfrm>
            <a:off x="4591080" y="1476360"/>
            <a:ext cx="58341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спользование ссы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4915080" y="1908000"/>
            <a:ext cx="403200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датированных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недатированных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 случае от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1"/>
          <p:cNvPicPr/>
          <p:nvPr/>
        </p:nvPicPr>
        <p:blipFill>
          <a:blip r:embed="rId1"/>
          <a:stretch/>
        </p:blipFill>
        <p:spPr>
          <a:xfrm>
            <a:off x="295200" y="1620720"/>
            <a:ext cx="4070520" cy="576108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sp>
        <p:nvSpPr>
          <p:cNvPr id="165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Verdana"/>
              </a:rPr>
              <a:t>Изменение №2 ГОСТ 1.5-200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552920" y="2700360"/>
            <a:ext cx="58341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 startAt="2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простить процедуру по оформлению межгосударственных стандартов на основе национальных станда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552920" y="3708360"/>
            <a:ext cx="5834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 startAt="3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сключить проведение патентной эксперт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554360" y="4471920"/>
            <a:ext cx="58341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 startAt="4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Заменить аббревиатуру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SO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на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ACC (EA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4586400" y="5176800"/>
            <a:ext cx="5833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 startAt="5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сключить подраздел «Нормативные ссылки» при наличии одной ссы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586400" y="6135840"/>
            <a:ext cx="58338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 startAt="6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сключить ограничения по введению в библиографию стандарта справочных и рекомендательных ссыл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10"/>
          <p:cNvSpPr/>
          <p:nvPr/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C747-4D97-4459-B682-BC1765C51D18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6"/>
          <p:cNvSpPr/>
          <p:nvPr/>
        </p:nvSpPr>
        <p:spPr>
          <a:xfrm>
            <a:off x="4554360" y="1547640"/>
            <a:ext cx="518328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1 Область применения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2 Нормативные  ссылки……………………………………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3 Термины, определения и сокращения …………………………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  Общие положения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.1 Сроки действия программы межгосударственной стандар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.2 Этапы формирования и реализации программы межгосударственной стандартизации через бюро МГС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.3 Структура программы межгосударственной стандартизации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.4 Общие принципы формирования программы межгосударственной стандартизации и участники выполнения работ………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.5 Автоматизация процессов формирования программы межгосударственной стандартизации и контроля за ее реализацией……………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5  Формирование программы межгосударственной стандартизаци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5.1 Начало формирования программы  межгосударственной стандартизации ………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5.2 Формирование предложений по разработке и обновлению стандартов………………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5.3 Участие межгосударственных технических комитетов по стандартизации в формировании программы межгосударственной стандартизации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5.4 Формирование и принятие программы межгосударственной стандартизации………………………………………………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6  Корректировка программы………………………………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7 Контроль за реализацией программы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8 Источники финансирования работ по программе межгосударственной стандартизации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Приложение А (обязательное) Форма программы межгосударственной  стандартизации………………………………</a:t>
            </a: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Титульный лист ГОСТ 1"/>
          <p:cNvPicPr/>
          <p:nvPr/>
        </p:nvPicPr>
        <p:blipFill>
          <a:blip r:embed="rId1"/>
          <a:stretch/>
        </p:blipFill>
        <p:spPr>
          <a:xfrm>
            <a:off x="450720" y="1836720"/>
            <a:ext cx="3780000" cy="534528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sp>
        <p:nvSpPr>
          <p:cNvPr id="174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ГОСТ 1.7–201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4"/>
          <p:cNvSpPr/>
          <p:nvPr/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7036-262B-4CB4-A17D-52CC5140F243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6"/>
          <p:cNvSpPr/>
          <p:nvPr/>
        </p:nvSpPr>
        <p:spPr>
          <a:xfrm>
            <a:off x="4554360" y="1547640"/>
            <a:ext cx="51832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1 Просить нац. органы направить до 28 мая 2018 г. в Росстандарт (МТК 536) предложения и замечания </a:t>
            </a:r>
            <a:br>
              <a:rPr sz="1800"/>
            </a:b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по первым ред. проектов станда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2 Росстандарту (МТК 536) направить </a:t>
            </a:r>
            <a:br>
              <a:rPr sz="1800"/>
            </a:b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в нац. органы доработанные окончательные ред. проектов стандартов до 20 июня 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3 Просить Росстандарт (МТК 536) </a:t>
            </a:r>
            <a:br>
              <a:rPr sz="1800"/>
            </a:b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до 15 сентября 2018 г. провести голосование по проектам окончательных реда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4 Включить в повестку заседания 56-го НТКС вопрос о принятии проектов окончательных реда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Титульный лист ГОСТ 1"/>
          <p:cNvPicPr/>
          <p:nvPr/>
        </p:nvPicPr>
        <p:blipFill>
          <a:blip r:embed="rId1"/>
          <a:stretch/>
        </p:blipFill>
        <p:spPr>
          <a:xfrm>
            <a:off x="2630520" y="4738680"/>
            <a:ext cx="1727280" cy="244152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sp>
        <p:nvSpPr>
          <p:cNvPr id="178" name="Заголовок 1"/>
          <p:cNvSpPr/>
          <p:nvPr/>
        </p:nvSpPr>
        <p:spPr>
          <a:xfrm>
            <a:off x="797040" y="95400"/>
            <a:ext cx="81928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Предложения в протокол заседания 55-го НТК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1"/>
          <p:cNvPicPr/>
          <p:nvPr/>
        </p:nvPicPr>
        <p:blipFill>
          <a:blip r:embed="rId2"/>
          <a:stretch/>
        </p:blipFill>
        <p:spPr>
          <a:xfrm>
            <a:off x="482760" y="1692360"/>
            <a:ext cx="1677960" cy="2376360"/>
          </a:xfrm>
          <a:prstGeom prst="rect">
            <a:avLst/>
          </a:prstGeom>
          <a:ln w="31680">
            <a:solidFill>
              <a:srgbClr val="d16f18"/>
            </a:solidFill>
            <a:miter/>
          </a:ln>
        </p:spPr>
      </p:pic>
      <p:pic>
        <p:nvPicPr>
          <p:cNvPr id="180" name="Picture 10" descr="1"/>
          <p:cNvPicPr/>
          <p:nvPr/>
        </p:nvPicPr>
        <p:blipFill>
          <a:blip r:embed="rId3"/>
          <a:stretch/>
        </p:blipFill>
        <p:spPr>
          <a:xfrm>
            <a:off x="2630520" y="1671480"/>
            <a:ext cx="1693800" cy="239724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pic>
        <p:nvPicPr>
          <p:cNvPr id="181" name="Picture 7" descr="1"/>
          <p:cNvPicPr/>
          <p:nvPr/>
        </p:nvPicPr>
        <p:blipFill>
          <a:blip r:embed="rId4"/>
          <a:stretch/>
        </p:blipFill>
        <p:spPr>
          <a:xfrm>
            <a:off x="468360" y="4738680"/>
            <a:ext cx="1722240" cy="243684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sp>
        <p:nvSpPr>
          <p:cNvPr id="182" name="Номер слайда 7"/>
          <p:cNvSpPr/>
          <p:nvPr/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1161-1A2B-4C8E-840F-A0569211EFEF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32:45Z</dcterms:created>
  <dc:creator>UstinovaES</dc:creator>
  <dc:description/>
  <dc:language>en-US</dc:language>
  <cp:lastModifiedBy>client801_10</cp:lastModifiedBy>
  <cp:lastPrinted>2018-03-26T06:28:39Z</cp:lastPrinted>
  <dcterms:modified xsi:type="dcterms:W3CDTF">2018-04-19T13:29:16Z</dcterms:modified>
  <cp:revision>92</cp:revision>
  <dc:subject/>
  <dc:title>Слайд 1</dc:title>
</cp:coreProperties>
</file>